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962D-3CCE-425B-8F8E-7B3679500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lady of perpetual hel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 InterMine, 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well funded, well-run and popular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our users a service by getting better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ncrease appeal, visibility of GM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hood: I'll be working with TableEdit anyway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ll be churning through e-mails from mailing lists for next bit of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D26C-333A-4D02-A682-2807F1F0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767-640F-4F61-B87C-FEB2A523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C30-5516-4A99-AAB7-D15354ED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66DD-AFC1-4804-A62C-93E27DE0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C67D-D4FB-4C69-B146-4DE3F2E0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2E84-EC3A-4AB6-A0C8-E060FC98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603-4C4F-4B57-B796-1871AC78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F51-BC91-4697-AA20-883329A2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EC9-24BF-4DC8-AE40-A7B01D93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563-9ECA-48F4-8E11-0E2B732C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5DB8-F1F2-4D65-A5C3-07F45E6E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862-4076-44E1-BD07-0505EBFD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F3B5-96B0-4E83-8760-EA3AFD935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01000" y="582948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73836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42120" y="2133720"/>
            <a:ext cx="3016080" cy="3733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67960" y="380880"/>
            <a:ext cx="383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MOD Help De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2103480"/>
            <a:ext cx="44197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axy, InterMine, Bio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tighter integration with rest of G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- will integrate with GMOD 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key to (non-sequence) 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Diversity Chado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it integrated, documented and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2009 Summer of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Logo Serv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 &amp;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Summe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Course in Euro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orial at Plant and Animal Genomic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ropod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l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o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ly promo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ive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nts, Reviews &amp; 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now offer to review grants that propose using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grant writers to include funding for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general project or specific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increase stability of G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I b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8160" y="3429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m I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 Gilbert is doing a review of my first year in August and Sept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contact him if you any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800" y="1752480"/>
            <a:ext cx="37040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MOD Help De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15 Pacific H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tional Evolutionary Synthesis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ements@nescent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lp@gmod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gmod.org/GMOD_Help_De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nescent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248520" y="4387680"/>
            <a:ext cx="182880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00200" y="3505320"/>
            <a:ext cx="7162920" cy="243828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2590920"/>
            <a:ext cx="7162920" cy="83808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838080"/>
            <a:ext cx="7162920" cy="167652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-7668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@ Arthropod Genomics Sympo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7806600" y="14983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8174520" y="28126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78000" y="990720"/>
            <a:ext cx="4527720" cy="487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32040" y="838080"/>
            <a:ext cx="56548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rsday 7-9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Contributions to Genom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Elsik, Christopher Childers, Darren H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20920" y="1668600"/>
            <a:ext cx="60678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7:30-9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do Databases and Integration with GMO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in, Dave C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93080" y="2590920"/>
            <a:ext cx="579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11:25-11:45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cated arthropod genes and ways to fi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 Gilb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8021520" y="4423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67680" y="3505320"/>
            <a:ext cx="4730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5-6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ative annotation of Drosophilid dicistronic g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62080" y="4041720"/>
            <a:ext cx="63406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urday 10-11:30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lete System For Community Genome Ann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: Database Resources for Emerging Model Org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ive genomics and database construction for Lepidopt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located Arthropod genes, and ways to find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ctorBase: A genome resource for arthropod vectors of human pathog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VectorBase Manual and Community Annotation Submission pip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terflyBase: A framework for comparative genomics in butterflies and mo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6019920"/>
            <a:ext cx="3429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Got dat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2240" y="5791320"/>
            <a:ext cx="1255680" cy="923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3960" y="762120"/>
            <a:ext cx="13406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Fle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tl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id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ter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conius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Annot-L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e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Help De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've been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'm planning on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I be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m I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've been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/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ged every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it easy to tag pages, lookup pages by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s for new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ssary, GMOD and Database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s, Calendar, Rece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your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've been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ome Informatics, IGERT EvoDevo, Arthropod Genomics, Genetics of Behavior, IS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pidoptera and ArthropodBase; U Ore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 Workshop with Scott @ Arthropod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35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MOD Summer School with Scott, Ed, B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students for 2 1/2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R, Phe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137160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666520" y="2286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@ ISMB &amp; BOSC 200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82224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http://gmod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1119240"/>
          <a:ext cx="9144000" cy="5745240"/>
        </p:xfrm>
        <a:graphic>
          <a:graphicData uri="http://schemas.openxmlformats.org/drawingml/2006/table">
            <a:tbl>
              <a:tblPr/>
              <a:tblGrid>
                <a:gridCol w="3809880"/>
                <a:gridCol w="457200"/>
                <a:gridCol w="4419720"/>
                <a:gridCol w="457200"/>
              </a:tblGrid>
              <a:tr h="284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ine - Open source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ehouse and Query Interfac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 Smith, Fri 11:10-11: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gatis: A Web-based Bioinformati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line Management and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ve Development  Syste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ua Orvis, Sat 9:30-9: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llo: a Sequence Annotation Edi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 Lee, Sat 11:50-1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RACE - BioMart Developments and Fu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ed Haider, Sat 1:50-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493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e0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- Enabling Data Integ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ed Haider, Sun 2:15-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mine - Open source Data Warehouse and Query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chard Smith, Mon 12:15-1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hway Tools Software: Regulatory Networks and Recent Development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ter Karp, Mon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: Enabling Complex Compu-tational Analysis For Experimental Biolog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mes Taylor, Tue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GALAXY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on Nekrutenko, Tue 3:45-4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6a5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f7a6c"/>
                    </a:solidFill>
                  </a:tcPr>
                </a:tc>
              </a:tr>
              <a:tr h="289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Genome Grid for Finding new Bug G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omplete System for Community Genome  Anno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OD: Managing genomic data from emerging model organis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 for reproducible analyses of next-generation sequencing data, Anton Nekruten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genomic Analysis with Galaxy: Windshield Genomics and Bey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– Enabling Data Inte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e99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6c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dimensional annotation of the Escherichia coli K-12 gen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wards Data Analysis of Genome Wide Influenza RNAi Sc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informatics to support the sequencing of Brassica rapa chromosomes A2 and A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co-variation among rates of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mut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 for database interoperability: a 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the CASIMIR consort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8c1a"/>
                    </a:solidFill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 rot="5400000">
            <a:off x="2583000" y="2369520"/>
            <a:ext cx="2833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SC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7480080" y="5244840"/>
            <a:ext cx="287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using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2627640" y="5174640"/>
            <a:ext cx="284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about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696080" y="54000"/>
            <a:ext cx="1371600" cy="981000"/>
          </a:xfrm>
          <a:prstGeom prst="rect">
            <a:avLst/>
          </a:prstGeom>
          <a:ln w="8892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 rot="5400000">
            <a:off x="7657920" y="22478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B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'm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OD User Dir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Table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ser has a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omponent lists users of that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user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riven by data on each user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new users an idea of who is doing something 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'll be in the 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e 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't possibly describe or maintain HOWTOs for all OS/software comb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organization for including, encouraging and tagging user experience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w already on the web 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aintenance involved with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catalog as we try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doc re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ing Chado Cookbook / Best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 gmod-schema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user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Browse 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Browse Cookboo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Annotation Server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casts for sophisticated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, Apollo, C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wiki up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ear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k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3:41:01Z</dcterms:created>
  <dc:creator>GMOD / NESCent</dc:creator>
  <dc:description/>
  <dc:language>en-US</dc:language>
  <cp:lastModifiedBy>GMOD / NESCent</cp:lastModifiedBy>
  <dcterms:modified xsi:type="dcterms:W3CDTF">2008-07-16T17:14:30Z</dcterms:modified>
  <cp:revision>16</cp:revision>
  <dc:subject/>
  <dc:title>PowerPoint Presentation</dc:title>
</cp:coreProperties>
</file>